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753-4CFF-4099-A1B6-9FFA175F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953-4E00-460E-B9AA-9318C0CB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696-8D54-4BD2-9A8A-34CAAC03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D72-9E45-4447-A3A1-9B9A51D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274-70E9-4F29-BB42-9328A80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79B-E27D-4131-928B-1E93222A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5A6-C3FE-4081-ADA3-66472D0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7D4-1564-4C09-9B77-B6216F2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F1B-67B7-42CF-A51A-D59A4933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EC7-AB2B-4585-89AA-32CB3C21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FC6-54E3-4255-BF90-0C79956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ED3-009A-4F20-9C27-20D0BD52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9320"/>
            <a:ext cx="253332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3A032A51-25C9-42BC-AE51-A2C110126F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gif"/><Relationship Id="rId15" Type="http://schemas.openxmlformats.org/officeDocument/2006/relationships/image" Target="../media/image12.jpe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629400"/>
            <a:ext cx="457200" cy="391068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?</a:t>
            </a:r>
            <a:r>
              <a:rPr b="1" lang="en-US" sz="1400" spc="-1" strike="noStrike">
                <a:solidFill>
                  <a:srgbClr val="800080"/>
                </a:solidFill>
                <a:latin typeface="AlgerianBas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425520"/>
            <a:ext cx="7111800" cy="9460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bed0e8"/>
              </a:gs>
              <a:gs pos="100000">
                <a:srgbClr val="003300"/>
              </a:gs>
            </a:gsLst>
            <a:lin ang="8100000"/>
          </a:gra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NGESTE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55600" cy="46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11960" y="900000"/>
            <a:ext cx="833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621400" y="528480"/>
          <a:ext cx="528480" cy="61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528480"/>
                    <a:ext cx="528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261120" y="523800"/>
          <a:ext cx="690480" cy="847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61120" y="523800"/>
                    <a:ext cx="690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23240" y="1220760"/>
            <a:ext cx="533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034040" y="484200"/>
          <a:ext cx="43524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4040" y="484200"/>
                    <a:ext cx="435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600" y="1054080"/>
            <a:ext cx="168912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nguiatGot Bk BT"/>
              </a:rPr>
              <a:t>NOVEMBRO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4800" y="749160"/>
            <a:ext cx="1866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pbqp-h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939960" cy="74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8916840"/>
            <a:ext cx="3555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LOBO" descr=""/>
          <p:cNvPicPr/>
          <p:nvPr/>
        </p:nvPicPr>
        <p:blipFill>
          <a:blip r:embed="rId9"/>
          <a:stretch/>
        </p:blipFill>
        <p:spPr>
          <a:xfrm>
            <a:off x="1689120" y="576360"/>
            <a:ext cx="4446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0667880"/>
            <a:ext cx="7086600" cy="3240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6600"/>
                </a:solidFill>
                <a:latin typeface="Tahoma"/>
              </a:rPr>
              <a:t>FALE COM A ENGESTE:</a:t>
            </a:r>
            <a:r>
              <a:rPr b="0" lang="pt-BR" sz="11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1100" spc="-1" strike="noStrike">
                <a:solidFill>
                  <a:srgbClr val="000000"/>
                </a:solidFill>
                <a:latin typeface="Tahoma"/>
              </a:rPr>
              <a:t>Tel: 27 3227 9322 /  Fax: 27 3227 9467 / e-mail:</a:t>
            </a:r>
            <a:r>
              <a:rPr b="0" lang="pt-BR" sz="1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1100" spc="-1" strike="noStrike">
                <a:solidFill>
                  <a:srgbClr val="0000ff"/>
                </a:solidFill>
                <a:latin typeface="Arial"/>
              </a:rPr>
              <a:t>engeste@ebrnet.com.br</a:t>
            </a:r>
            <a:r>
              <a:rPr b="0" lang="pt-BR" sz="11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7010280"/>
            <a:ext cx="662940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O Engenheiro do futuro é um profissional polivalente, com conhecimento em recursos humanos e gestão. A lista de atributos que este profissional deverá ter não é pequena: liderança, boa comunicação, conhecimento de planejamento, controle de produção e gestão de custos. Ser um bom negociador, dominar a língua inglesa, conhecer aspectos contratuais e jurídicos e, principalmente, saber lidar com clien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Com a transformação dos canteiros, o Engenheiro Civil tem que agir muitas vezes como Engenheiro de Produção, e ele, que sempre teve que lidar com situações que envolvem contas, agora tem que motivar grupos, gerenciar frentes de trabalho, conviver com clientes e negociações. O mercado exige, cada vez mais, rapidez e precisão de decisões em níveis dificilmente alcançáveis sem uma dedicação sistemát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A empresa será outro ponto importante para se entender o futuro do engenheiro, pois o engenheiro será, em boa parte, moldado para integrar uma construtora do futuro, e o papel mais importante do engenheiro para a construtora é na proposição de negócios, vendo do canteiro, como a empresa se posiciona no mercado. Trabalhar na produção pode trazer idéias diferentes para a empre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O objetivo da Construtora do Futuro é integrar o Engenheiro do Futuro. As empresas mais competitivas são as que desenvolvem “core competences”, competências difíceis de serem copiadas pelos seus competidores e que são percebidas pelos seus clientes. Assim, o Engenheiro do Futuro trabalhará numa Construtora do Futuro, ambos moldados para um negócio mais tecnológico e menos artesanal.                                                                                                                           </a:t>
            </a:r>
            <a:r>
              <a:rPr b="0" lang="pt-BR" sz="800" spc="-1" strike="noStrike">
                <a:solidFill>
                  <a:srgbClr val="000000"/>
                </a:solidFill>
                <a:latin typeface="Comic Sans MS"/>
              </a:rPr>
              <a:t>TECHNE/PINI</a:t>
            </a:r>
            <a:r>
              <a:rPr b="1" lang="pt-BR" sz="1600" spc="-1" strike="noStrike">
                <a:solidFill>
                  <a:srgbClr val="000000"/>
                </a:solidFill>
                <a:latin typeface="AlgerianBas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NIP" descr=""/>
          <p:cNvPicPr/>
          <p:nvPr/>
        </p:nvPicPr>
        <p:blipFill>
          <a:blip r:embed="rId10"/>
          <a:stretch/>
        </p:blipFill>
        <p:spPr>
          <a:xfrm>
            <a:off x="3940200" y="533520"/>
            <a:ext cx="555480" cy="76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6643800"/>
            <a:ext cx="647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523880" indent="-15238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Profissão: Engenheiro Ci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ELO_3º%20SEMINÁRIO" descr=""/>
          <p:cNvPicPr/>
          <p:nvPr/>
        </p:nvPicPr>
        <p:blipFill>
          <a:blip r:embed="rId11"/>
          <a:stretch/>
        </p:blipFill>
        <p:spPr>
          <a:xfrm>
            <a:off x="2603520" y="1600200"/>
            <a:ext cx="596880" cy="87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514600"/>
            <a:ext cx="29718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No dia 14 de novembro a ENGESTE realizou o 3º Seminário Interno sobre Qualidade e Segurança na Construção Civil, contando com a participação dos engenheiros Bongestab – BONGESTAB Consultoria, que falou sobre “Qualidade de Vida”, Oswaldo Favarato – SECONCI com o tema “Segurança Preventiva no Trabalho” e Cidney Mazin – VEGA, que expôs sobre ”Segregação e Reciclagem de Resíduos na Construção Civil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25909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6666ff"/>
                </a:solidFill>
                <a:latin typeface="Busorama Md BT"/>
              </a:rPr>
              <a:t>ENGESTE REALIZA SEMIN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6666ff"/>
                </a:solidFill>
                <a:latin typeface="Busorama Md BT"/>
              </a:rPr>
              <a:t>DE QUALIDADE E SEGURANÇ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338720"/>
            <a:ext cx="3962520" cy="209808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9900"/>
                </a:solidFill>
                <a:latin typeface="Comic Sans MS"/>
              </a:rPr>
              <a:t>ENGESTE RENOVA CERTIFICAÇÃO ISO9002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9900"/>
                </a:solidFill>
                <a:latin typeface="Comic Sans MS"/>
              </a:rPr>
              <a:t>MANTEM-SE NO NÍVEL “A” DO PBQP-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222880"/>
            <a:ext cx="198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Em auditoria realizada nos dias 21 e 22 de novembro, a Engeste manteve sua Certificação pelas Normas ISO9002 e pelo PBQP-H no Nível “A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NV_Certificado_REDUZIDO" descr=""/>
          <p:cNvPicPr/>
          <p:nvPr/>
        </p:nvPicPr>
        <p:blipFill>
          <a:blip r:embed="rId12"/>
          <a:stretch/>
        </p:blipFill>
        <p:spPr>
          <a:xfrm>
            <a:off x="3657600" y="5029200"/>
            <a:ext cx="92556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BQP-H_Certificado_REDUZIDO" descr=""/>
          <p:cNvPicPr/>
          <p:nvPr/>
        </p:nvPicPr>
        <p:blipFill>
          <a:blip r:embed="rId13"/>
          <a:stretch/>
        </p:blipFill>
        <p:spPr>
          <a:xfrm>
            <a:off x="6553080" y="5029200"/>
            <a:ext cx="92232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81280" y="1747800"/>
            <a:ext cx="3962520" cy="64152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BenguiatGot Bk BT"/>
              </a:rPr>
              <a:t>CVRD contrata ENGESTE para Construção do Novo DEPÓSITO INTERMEDIÁRIO DE RESÍDUOS DA OFICINA DE LOCOMOTIVAS  CVRD - Tubar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738520"/>
            <a:ext cx="2362320" cy="15541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ENGESTE executará as obras civis e o fornecimento e montagem das partes mecânica e elétrica. As obras tiveram início em 18 de novembro e estarão entregues em fevereiro de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alpão%202" descr=""/>
          <p:cNvPicPr/>
          <p:nvPr/>
        </p:nvPicPr>
        <p:blipFill>
          <a:blip r:embed="rId14"/>
          <a:stretch/>
        </p:blipFill>
        <p:spPr>
          <a:xfrm>
            <a:off x="6095880" y="2336760"/>
            <a:ext cx="137160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efmm03_Locomotiva" descr=""/>
          <p:cNvPicPr/>
          <p:nvPr/>
        </p:nvPicPr>
        <p:blipFill>
          <a:blip r:embed="rId15"/>
          <a:srcRect l="3948" t="0" r="4835" b="9296"/>
          <a:stretch/>
        </p:blipFill>
        <p:spPr>
          <a:xfrm>
            <a:off x="6324480" y="3200400"/>
            <a:ext cx="1219320" cy="82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2" name="Sem_03_Foto_04_Reduzida" descr=""/>
          <p:cNvPicPr/>
          <p:nvPr/>
        </p:nvPicPr>
        <p:blipFill>
          <a:blip r:embed="rId16"/>
          <a:stretch/>
        </p:blipFill>
        <p:spPr>
          <a:xfrm>
            <a:off x="457200" y="4419720"/>
            <a:ext cx="289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12-06T12:01:01Z</dcterms:modified>
  <cp:revision>292</cp:revision>
  <dc:subject/>
  <dc:title>Slide sem título </dc:title>
</cp:coreProperties>
</file>